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97917"/>
        <c:axId val="44988746"/>
      </c:barChart>
      <c:catAx>
        <c:axId val="87497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88746"/>
        <c:crosses val="autoZero"/>
        <c:auto val="1"/>
        <c:lblAlgn val="ctr"/>
        <c:lblOffset val="100"/>
        <c:noMultiLvlLbl val="0"/>
      </c:catAx>
      <c:valAx>
        <c:axId val="44988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97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A0F-B0BB-4EB0-9829-39685C2F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228-6B3A-49C7-B2AE-35C328AB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675-4154-4571-AC50-B2E244F6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F78-37FF-4803-94A4-EF5BB135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002-002F-47F9-8607-A2FCC7D1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4A8-31E8-49CE-93CF-DF0D8B09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A55-225C-4126-B503-8D486258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EC7-F04A-4760-9058-4D4D18EA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CEB-1873-4E53-AF55-299A1C98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2F2-EB03-4016-BFC8-73FAA14F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634-C15C-40A5-B9EB-E9E5B730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C2D-250A-4831-918F-CA8678F2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09684-6466-4CAA-80F9-CD4DE62D47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