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46265"/>
        <c:axId val="69032516"/>
      </c:barChart>
      <c:catAx>
        <c:axId val="42446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32516"/>
        <c:crosses val="autoZero"/>
        <c:auto val="1"/>
        <c:lblAlgn val="ctr"/>
        <c:lblOffset val="100"/>
        <c:noMultiLvlLbl val="0"/>
      </c:catAx>
      <c:valAx>
        <c:axId val="690325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46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A80-A7A1-4F05-8BFA-080992E5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0AD8-163B-435B-B664-5A2180A5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4CF-0416-48F7-8147-7F3C8A75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25D-261C-42D8-A29D-F351DF78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ED9-5027-4BDC-AB97-616DA896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1AE-C113-4884-BA26-271B1F44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F22-5ED5-4329-BF49-044B3C44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6790-50BF-46A2-BBB1-E64F0D2D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BB24-D444-4992-BE0D-EB876E82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51F-9460-4C44-95D9-CDC31CFE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86B2-D68A-468A-B3C0-024E79F4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197F-21C2-48D8-9FD5-07AFFAAA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B45FD-3432-46AD-A408-F6E1D76371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