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23882"/>
        <c:axId val="11040685"/>
      </c:barChart>
      <c:catAx>
        <c:axId val="35923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0685"/>
        <c:crosses val="autoZero"/>
        <c:auto val="1"/>
        <c:lblAlgn val="ctr"/>
        <c:lblOffset val="100"/>
        <c:noMultiLvlLbl val="0"/>
      </c:catAx>
      <c:valAx>
        <c:axId val="11040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3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29A-A7FC-4C97-AC08-576B6AC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60B-6F35-43D6-B3D3-5A453EA1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F32-EC82-46EB-A0EB-9FC8B982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A8D-647A-4DCC-A771-A9B8BD71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968-ADAA-4875-BB01-FDB0BD2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449-ED2E-4B51-9718-4468C69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15E-DD30-4CC4-B1FE-0D73F07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D2C-7259-426B-8EA9-15079DED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7A5-CDF7-4910-8C69-8676696C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6A7-366A-4A61-8A76-3B2F1A3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D32-9882-44D1-8AD1-0DE01B1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254-0CF1-48EA-8CE7-E598530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57B8-B22A-4396-8301-4F20E8704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