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16659"/>
        <c:axId val="28766412"/>
      </c:barChart>
      <c:catAx>
        <c:axId val="93016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66412"/>
        <c:crosses val="autoZero"/>
        <c:auto val="1"/>
        <c:lblAlgn val="ctr"/>
        <c:lblOffset val="100"/>
        <c:noMultiLvlLbl val="0"/>
      </c:catAx>
      <c:valAx>
        <c:axId val="28766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16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B77-C54B-4670-95A0-9BE04E10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210-C7E9-4858-9CD9-C923DEE7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49F-9144-4FD5-A9FE-22B4B873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BC6-6215-46A1-87EA-4212D61B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341-F698-4234-B63E-72E274E3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E71-CD7E-4185-86B0-A3CE4B47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471-B70B-4F8D-88AE-09426684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7E5-4749-49D0-90FB-E91F0AB0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75E-3D89-49DF-B235-F952AF74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151-76FE-4E3F-B416-4CEC950D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C5B-C6B0-44CD-AE32-5C4E552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53D-D712-44F9-BC0B-3E58180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F6527-6D20-46BC-842A-A50C5987C3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