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53595"/>
        <c:axId val="85649092"/>
      </c:barChart>
      <c:catAx>
        <c:axId val="88953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9092"/>
        <c:crosses val="autoZero"/>
        <c:auto val="1"/>
        <c:lblAlgn val="ctr"/>
        <c:lblOffset val="100"/>
        <c:noMultiLvlLbl val="0"/>
      </c:catAx>
      <c:valAx>
        <c:axId val="85649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53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74F-27C0-4285-AA7A-854B3051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B209-3FE8-442F-B64A-14CDC5C6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EBD-4A3A-4AA0-B569-5F5E7E1C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A17-10B6-4688-8F06-155E3A61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E3A-A5EA-4D46-BBD6-C0968C7F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B08-F1B8-4F69-BE6D-39C19B72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914-D15D-489D-A6E7-9E8E8A08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CF2-7F3A-468C-A043-DC48456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7A16-E7C2-41FE-A442-6882E9EF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4068-2EC5-49DE-A795-1213E8BC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9F4-AC33-4A65-8F4C-1863A913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D8A-EA62-44CD-BC09-43851CE7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F30AE-4E3E-427A-8EB1-7CFCF322C3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