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335973"/>
        <c:axId val="67656043"/>
      </c:barChart>
      <c:catAx>
        <c:axId val="383359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656043"/>
        <c:crosses val="autoZero"/>
        <c:auto val="1"/>
        <c:lblAlgn val="ctr"/>
        <c:lblOffset val="100"/>
        <c:noMultiLvlLbl val="0"/>
      </c:catAx>
      <c:valAx>
        <c:axId val="676560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3359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2374-FC1A-451E-BFC9-AA6D55939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A7EE-F1C4-47E9-90C8-7F69D408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0DFC-E2C2-47F6-AE74-8EB62DFD9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B56D-BBFE-4BB8-BF5F-9BD724569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D5DE-50D1-47E8-888B-18A1A78E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02C7-AB9E-4A45-8488-44E87A44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0B74-E8D6-48EF-A6FB-3CEFBDF5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8A33-68BD-4960-9965-905ACBEA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AF3B-3A11-4FD1-B9C9-5A096A2E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C489-CB4F-40B9-8F61-6F8DE27D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013E-572F-4508-BDD1-777FC6B0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AB6D-14FE-496D-AB41-24A93A21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173D4D-F4CB-4089-B1C5-BA516F639D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