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56777"/>
        <c:axId val="65574805"/>
      </c:barChart>
      <c:catAx>
        <c:axId val="907567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74805"/>
        <c:crosses val="autoZero"/>
        <c:auto val="1"/>
        <c:lblAlgn val="ctr"/>
        <c:lblOffset val="100"/>
        <c:noMultiLvlLbl val="0"/>
      </c:catAx>
      <c:valAx>
        <c:axId val="655748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567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43F9-10FB-41BD-A76E-EBA64412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71E9-DE50-40B8-A58E-06E6E796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696B-7A65-4235-B6E4-DD37BF96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707-7986-4766-9DE4-828CABF7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38E4-58B4-466F-B3F8-4EFA9A44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8CE-5360-4D8B-914B-23297AD7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0F7B-518B-4784-B3E1-5FD8FD6C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CDD-8AE9-4FF6-9323-36F29662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C1EA-D984-4B22-B561-CE2C96E7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5E78-5E74-441D-8867-C3D26CC0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9F94-C4F1-4507-B1F7-955142B2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DABC-55DF-4605-9303-C8F9B47F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D9992-1C67-4C61-9BBD-359C6F8BBF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