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54360"/>
        <c:axId val="15546197"/>
      </c:barChart>
      <c:catAx>
        <c:axId val="38543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46197"/>
        <c:crosses val="autoZero"/>
        <c:auto val="1"/>
        <c:lblAlgn val="ctr"/>
        <c:lblOffset val="100"/>
        <c:noMultiLvlLbl val="0"/>
      </c:catAx>
      <c:valAx>
        <c:axId val="155461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43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E82A-CC5B-46B4-B27E-F8548F8B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B241-409C-4D0F-8C10-DCD4FF14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5262-CD62-4D07-B953-88B04E96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7131-DD79-44A0-A146-0659FAA5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348-1153-4EF4-A539-D3E7610E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B3C-896A-4674-8779-3FAEF657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09B-4779-4335-B5B9-5F5C2934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ADD-049A-4360-9D50-E84B2AD7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0C33-895B-4C1A-9E19-6A8E3A44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D12-8F68-4612-8C3B-18384048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5D51-FF6C-4828-B1FF-601E35F4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CE49-7915-492A-B459-87F20EF7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F356D-2FB7-4F53-BCA4-E38A98D694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