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76746"/>
        <c:axId val="99122613"/>
      </c:barChart>
      <c:catAx>
        <c:axId val="7797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2613"/>
        <c:crosses val="autoZero"/>
        <c:auto val="1"/>
        <c:lblAlgn val="ctr"/>
        <c:lblOffset val="100"/>
        <c:noMultiLvlLbl val="0"/>
      </c:catAx>
      <c:valAx>
        <c:axId val="99122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7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089-65B2-41D7-B3F9-B6C1889C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1F1-6E7F-4F3B-B124-3545281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31F-EEA9-41B4-8521-527D9C18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8C3-4EE6-4799-B876-6E0251D5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A57-07A9-4FD6-8C02-D037138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7A1-72CB-46A5-BD27-6E65853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C49-FD5E-4919-9BAD-AFF9271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3CC-9653-4B81-919A-F931F4A9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C7E-98F6-442B-9A6F-6E94625B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B02-E261-46FB-904C-6A8153A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FAF-13AB-4EDF-9ADF-C82AC09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987-7BE1-4CC9-81E2-CDF1336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3BB84-76EE-40BA-A0A2-16AED3CEE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