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99912"/>
        <c:axId val="63246699"/>
      </c:barChart>
      <c:catAx>
        <c:axId val="58199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46699"/>
        <c:crosses val="autoZero"/>
        <c:auto val="1"/>
        <c:lblAlgn val="ctr"/>
        <c:lblOffset val="100"/>
        <c:noMultiLvlLbl val="0"/>
      </c:catAx>
      <c:valAx>
        <c:axId val="63246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99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CE1-C90E-41E0-911D-AE217BE3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785-EB08-4525-859D-8F47A9C4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6F0-1E81-4B5F-A120-A09ED3F1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2C8-70ED-4646-8BFF-863E908A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3E5-8F1F-466E-A239-D4AFA710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90B-688E-49DF-B179-58901140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D90-715D-43BF-8EEC-679AFD97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FA0-D7D9-4027-8288-D79E03A2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2F2-9F07-4AD3-A8D5-0767DEA8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4A3-10AF-42CE-9AB7-317FF774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1C1-7A0D-48E8-80A7-BDC53B1A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7D1-5CE9-4333-8F30-0723EB38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0290A-3119-4E77-84F1-24931BA2AD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