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387583"/>
        <c:axId val="23596849"/>
      </c:barChart>
      <c:catAx>
        <c:axId val="333875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96849"/>
        <c:crosses val="autoZero"/>
        <c:auto val="1"/>
        <c:lblAlgn val="ctr"/>
        <c:lblOffset val="100"/>
        <c:noMultiLvlLbl val="0"/>
      </c:catAx>
      <c:valAx>
        <c:axId val="235968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875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7E76-7502-455F-A837-055A0F15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DF99-4BBB-4B12-BA69-CD768C46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10E5-0C1F-401B-BD75-765A89C5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196E-DE5A-457A-8FF1-C9C6A727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5E4E-DCF9-436A-8B37-B4F97796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7E2F-B0CF-459C-9C08-F0DCA39A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8B0F-4904-4C63-9F86-7C0F0780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295E-AF1B-4091-AF61-A8BAFA46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9E67-D407-4B9D-B385-37EFDD27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288F-940E-4592-8004-AC70BDDC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4FDE-66CE-4F82-928F-494E3260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EA06-9825-48FF-9B11-CCC36626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A74CD-9750-4FAD-BA34-D7D793BD4C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