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5237"/>
        <c:axId val="11311333"/>
      </c:barChart>
      <c:catAx>
        <c:axId val="9685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11333"/>
        <c:crosses val="autoZero"/>
        <c:auto val="1"/>
        <c:lblAlgn val="ctr"/>
        <c:lblOffset val="100"/>
        <c:noMultiLvlLbl val="0"/>
      </c:catAx>
      <c:valAx>
        <c:axId val="11311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5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14A-2F1D-48B7-B92A-59D68292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285-4FB0-4572-9D9B-CF0A24F3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7489-7FFC-41CF-A51A-35587CDC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A5C4-63AB-401A-A4E9-7EA598DF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F41-6642-4F95-BC73-CC09DB6E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534-A1C9-451A-8FB9-0A671EE2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6B8-A054-41E1-B392-88850858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A07-4D52-4803-B2DB-CF7C9EC1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F4B-EC3B-458D-93C3-02A45B4F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A79-4595-4153-A265-5F68F386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23A-83DD-4E4F-9DC5-1A264231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248-CFDB-4649-A3D2-75A937A6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3F695-E519-4A90-AE5F-8C000550EC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