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36296"/>
        <c:axId val="94879852"/>
      </c:barChart>
      <c:catAx>
        <c:axId val="93136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79852"/>
        <c:crosses val="autoZero"/>
        <c:auto val="1"/>
        <c:lblAlgn val="ctr"/>
        <c:lblOffset val="100"/>
        <c:noMultiLvlLbl val="0"/>
      </c:catAx>
      <c:valAx>
        <c:axId val="94879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36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7E8-536D-439C-9E72-60FFF7DE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B07-E5F1-440A-B617-996AB881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F6A-2F67-403E-9315-F6A1C5AE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718-ACFA-439F-ABF5-61261733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739-4F9A-41B5-86B0-60DB74C4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063-F54C-44A4-A52C-B0940EED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A64-7AE3-42F3-8FB9-F4793C4F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B45-38B3-4733-BBCF-76621251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82F-8A45-4FB0-8DFA-E9CD408F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A8B-E4E3-43CE-A603-C7AFB01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6C3-CAF7-4785-B827-0A1B584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D7F-2FE4-4EAB-BFC7-5F470BE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31C1B-6EC5-4029-8FBB-4A1393E712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