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09468"/>
        <c:axId val="41166740"/>
      </c:barChart>
      <c:catAx>
        <c:axId val="40209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66740"/>
        <c:crosses val="autoZero"/>
        <c:auto val="1"/>
        <c:lblAlgn val="ctr"/>
        <c:lblOffset val="100"/>
        <c:noMultiLvlLbl val="0"/>
      </c:catAx>
      <c:valAx>
        <c:axId val="41166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09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8D8-9338-494E-B096-BF03C949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538-7DD8-452A-AFB7-2055477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6B4-0C81-402F-BB9F-BDA02D22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201-906A-4061-A331-F4308E5F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F26-C6CD-41C1-AF1E-A323A44E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ABD-F0F6-4BD9-A6C6-4370DF90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A3A-F62A-4331-BC6A-14CA10D1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6FE-EC7E-4B6D-AAD1-999608BC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533-FE6B-42C9-A693-33415513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BF7-CF83-4CBA-AED6-ED017B22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15E-9245-4808-B021-957F293A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C32-FCA2-4420-9864-05706BD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88E1E-5EFB-40F8-BB06-43AEF77C9E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