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97977"/>
        <c:axId val="25341502"/>
      </c:barChart>
      <c:catAx>
        <c:axId val="44297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41502"/>
        <c:crosses val="autoZero"/>
        <c:auto val="1"/>
        <c:lblAlgn val="ctr"/>
        <c:lblOffset val="100"/>
        <c:noMultiLvlLbl val="0"/>
      </c:catAx>
      <c:valAx>
        <c:axId val="25341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97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B64-C873-4C9C-8575-8CB79311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D89-A6BD-4EC8-AFCE-502869B7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298-3A49-4370-BCC3-12003CDD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D171-A99E-4D86-B97B-048D5A09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3845-7982-4CD3-9307-D5B195B1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7BE0-5EA5-4A5C-9960-573ACF13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891-A927-4BC0-84A5-F538CE4F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0A71-F6DC-4719-93A0-3C0A8473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DA60-08BA-46C2-A8B6-63ED0770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959-762F-46D0-9074-4FBB4AB6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B2D5-5A76-4056-8756-11CA95FD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25E-1C89-43E6-81C7-6F973A42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FB190-36A9-4BE1-9A3B-BB515FF803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