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85614"/>
        <c:axId val="55204860"/>
      </c:barChart>
      <c:catAx>
        <c:axId val="62785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4860"/>
        <c:crosses val="autoZero"/>
        <c:auto val="1"/>
        <c:lblAlgn val="ctr"/>
        <c:lblOffset val="100"/>
        <c:noMultiLvlLbl val="0"/>
      </c:catAx>
      <c:valAx>
        <c:axId val="55204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85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E6E-FAAC-491B-A5E5-2BC735E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7C5-E5DE-4BCA-B0C5-7A9A17CB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FD1-0378-4BBF-8FC9-98048C07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E59-2AD1-4D8C-A352-0B6E2CB6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DBF-E125-4F6D-A419-0AEFCFB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701-F87C-43FE-9827-0A4115B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0EE-765F-43F6-A0CA-ABDD211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CE9-7513-4060-B0CA-B5431A3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50C-C2E2-41DF-ADBE-F366965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02E-ABFA-4A81-BF1C-310B601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F51-3FB1-46BF-8079-C787B63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94A-2EDE-4F64-BA7E-20CE27D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B36B5-51C5-4D46-9D1B-2E1120CC40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