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58941"/>
        <c:axId val="87736727"/>
      </c:barChart>
      <c:catAx>
        <c:axId val="62558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36727"/>
        <c:crosses val="autoZero"/>
        <c:auto val="1"/>
        <c:lblAlgn val="ctr"/>
        <c:lblOffset val="100"/>
        <c:noMultiLvlLbl val="0"/>
      </c:catAx>
      <c:valAx>
        <c:axId val="87736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8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A83-9AD1-4932-86E3-C6F877BC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B52-5E00-41C7-9471-ABC762A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B6D-8601-47CC-A6BC-89FFE2F0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3C5-3377-47A4-AD68-9ED41663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5D1-F46B-4645-864A-4182C5B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9AD-3D29-418B-8F30-ED64285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7A-9591-4A03-957D-CFED6B9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B9B-498E-490E-B1B1-80BBC34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27F-8193-4021-9817-2FB0A1D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8E4-62C0-407C-A16B-77FDC39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D95-E538-4474-8247-3CFCA80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A61-C53F-431F-84D3-8838A1C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0C86-76C9-4FA1-974A-9CBE3CA7D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