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14477"/>
        <c:axId val="25984991"/>
      </c:barChart>
      <c:catAx>
        <c:axId val="63914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84991"/>
        <c:crosses val="autoZero"/>
        <c:auto val="1"/>
        <c:lblAlgn val="ctr"/>
        <c:lblOffset val="100"/>
        <c:noMultiLvlLbl val="0"/>
      </c:catAx>
      <c:valAx>
        <c:axId val="25984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14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A2E-A46C-4A5D-95CE-147524A6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027-B693-4B6A-B312-D020C179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6A5-396D-4C9D-A7E7-DD91D905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C5F-5617-4584-A394-8DB21796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755-F611-4FE3-8DE2-E74515FC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98-8AA7-41A3-AD66-791720EA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B1C-41F7-43D7-B1BF-ACA3A7EF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531-BB5E-49DE-BF38-F05D0221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1EC-1C4F-41C4-9E34-1C71FFFB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30E-4FB1-4C7A-AE0F-B32A3BC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D62-22D6-4B6D-A6D4-C184096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BC5-C68B-427D-BE03-B55D2B4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12C05-7AAA-4802-A89E-7B4944C119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