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60682"/>
        <c:axId val="74250987"/>
      </c:barChart>
      <c:catAx>
        <c:axId val="50560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0987"/>
        <c:crosses val="autoZero"/>
        <c:auto val="1"/>
        <c:lblAlgn val="ctr"/>
        <c:lblOffset val="100"/>
        <c:noMultiLvlLbl val="0"/>
      </c:catAx>
      <c:valAx>
        <c:axId val="74250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60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89C-9E39-4EBD-BA79-22FDA95C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94A-0C05-4E51-9E7C-02090B8C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9F6-3BC7-45C4-82EA-F7921FA6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5BB-0C84-4B78-B380-BBAEA470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12D-E476-4A73-85CF-322E7E50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03E-D5EF-41FB-B64B-860840C9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C60-192A-439D-A0B1-1C7C36F9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00B-92EA-4BF4-B355-C461DC66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2E4-7A3E-49D8-9AA2-1E3DCB5D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0E4-4021-47DC-86DE-25A2654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17F-9AB8-4721-B426-08E1F051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D80-0234-4523-883E-5E7C636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73943-BDCA-45AA-BE7F-008F6E8CA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