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811731"/>
        <c:axId val="25131974"/>
      </c:barChart>
      <c:catAx>
        <c:axId val="988117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31974"/>
        <c:crosses val="autoZero"/>
        <c:auto val="1"/>
        <c:lblAlgn val="ctr"/>
        <c:lblOffset val="100"/>
        <c:noMultiLvlLbl val="0"/>
      </c:catAx>
      <c:valAx>
        <c:axId val="251319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117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4C96-8D25-48DB-96F4-E015D5E9F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753F-855E-45CB-A01C-CFA25067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3A3A-76A1-4E04-A7AC-4C63A457A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B4B3-29D1-4DF7-AD03-E759A5B38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B045-CC2D-49EC-B864-D5F976E4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5A2E-7167-42AA-B449-853A5D3E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6AB3-F84D-4461-B910-3150FA6B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F582-0D6D-46D9-9215-3BDF94B7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95DA-3BF6-4ED4-88ED-D45B4A83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0B28-95DE-4E78-8AC5-BDE87BC3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CBEE-A078-4ECA-8D67-6A568A91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FCD3-48DF-4C9C-A32F-C0569FF0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69F175-B124-494A-973F-E1258BFBBC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