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21135"/>
        <c:axId val="11956095"/>
      </c:barChart>
      <c:catAx>
        <c:axId val="90121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56095"/>
        <c:crosses val="autoZero"/>
        <c:auto val="1"/>
        <c:lblAlgn val="ctr"/>
        <c:lblOffset val="100"/>
        <c:noMultiLvlLbl val="0"/>
      </c:catAx>
      <c:valAx>
        <c:axId val="11956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21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5A8-1B12-43EC-9749-5562B7D2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FA0-AFE8-4771-8C7C-9BDC054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6A6-7B0D-4549-B89A-16946A58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7F5-F3A5-4ACE-B25E-D5FD5C38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E78-75D7-456D-9834-FCA51579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16D-225A-453C-BF4D-D241D8A9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C09-D715-49C8-8108-795834C4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7A6-BE3D-4EB3-AA51-E322EF6F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44D-83A4-410E-B02E-3D4ABF68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F7D-57BE-4CD2-80FB-368F4B2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401-062E-41BC-B1BA-76A7E18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3C5-276B-49D3-B5E6-A144F7B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00AE8-4E78-4247-9E27-D5057FE3EA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