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92272"/>
        <c:axId val="70075161"/>
      </c:barChart>
      <c:catAx>
        <c:axId val="83292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75161"/>
        <c:crosses val="autoZero"/>
        <c:auto val="1"/>
        <c:lblAlgn val="ctr"/>
        <c:lblOffset val="100"/>
        <c:noMultiLvlLbl val="0"/>
      </c:catAx>
      <c:valAx>
        <c:axId val="70075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92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1BE-1C98-4E57-BF73-62AA2C2C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2E5-452E-48EC-9401-BB793A8B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687-ABEB-4CD1-A91C-7B01E15D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317-F5B4-4017-8809-11BAE7CE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028-1AA6-4A6D-BF42-7D51CFF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E12-6006-4551-BCA7-C1A214B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766-B316-496A-9667-309D167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CC8-7F6E-4248-9324-F10306F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ED3-1A7E-4D01-8630-6336E98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7C3-8B39-4739-9B32-5886DBC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37A-4F60-433F-B82B-F5FA650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4BD-704F-4D95-8F7B-0458732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D33B0-9E39-4FEE-B9DE-9039E178B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