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18558"/>
        <c:axId val="67387337"/>
      </c:barChart>
      <c:catAx>
        <c:axId val="79118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87337"/>
        <c:crosses val="autoZero"/>
        <c:auto val="1"/>
        <c:lblAlgn val="ctr"/>
        <c:lblOffset val="100"/>
        <c:noMultiLvlLbl val="0"/>
      </c:catAx>
      <c:valAx>
        <c:axId val="67387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8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766-365F-4A28-8B8B-811B18E3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AA5-1634-4CFD-A9B7-C19A591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209-7241-464E-9379-E61CEB2C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293-DBBF-4DD8-B8C9-4D985F67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E80-F418-46E9-BAC2-D1C7D70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E5C-13C5-4561-9C35-6F1B173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545-8DF5-46E8-8642-95D58093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0DC-4048-435E-BE14-6F99589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D8A-18C7-4C9D-82F1-1C86735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AE8-1D29-40F8-982A-33FEB57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75A-3A04-4A81-9978-0F6C641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637-808C-4D3F-A19B-CF10EA6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07E1-8CE9-48FD-9427-A30AD8E89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