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43456"/>
        <c:axId val="31091515"/>
      </c:barChart>
      <c:catAx>
        <c:axId val="24143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91515"/>
        <c:crosses val="autoZero"/>
        <c:auto val="1"/>
        <c:lblAlgn val="ctr"/>
        <c:lblOffset val="100"/>
        <c:noMultiLvlLbl val="0"/>
      </c:catAx>
      <c:valAx>
        <c:axId val="31091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3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B7A-936E-4E63-B9F6-26A7F79F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3CB-2252-4F08-9B38-1D1EFEAA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18B-644A-489C-A3EB-B2C06876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8D6-93D0-4E6F-9D0A-4CA7E23C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0C3-BE68-411E-9392-D6D2A7D9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DC2-BA4C-4A86-B636-971A1786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DDF-216A-4097-A7F9-F44DDA99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34E-5FAA-4DA1-80A9-50C747C9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9A5-E019-4F12-B827-C2E53774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71D-9DCF-4EC5-937A-81EE217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AED-EAC6-49FD-92A7-6053D5B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FEE-BEFF-4C81-A608-2B6CC299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79E98-5479-4771-B24D-F01AB3FD34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