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1895"/>
        <c:axId val="50687887"/>
      </c:barChart>
      <c:catAx>
        <c:axId val="4731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87887"/>
        <c:crosses val="autoZero"/>
        <c:auto val="1"/>
        <c:lblAlgn val="ctr"/>
        <c:lblOffset val="100"/>
        <c:noMultiLvlLbl val="0"/>
      </c:catAx>
      <c:valAx>
        <c:axId val="50687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1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C46-8DB0-4878-8F5B-FE8BF6AA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478-2A4C-47FF-A061-5972205F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7DF-C28D-4B2E-BEB3-03332206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7B2-75EB-4419-A9D5-80F2E494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81E-74B4-424C-89D8-8CEDC0ED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B3E-7172-4387-8D03-C9C2D576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714-F6DE-466B-A863-67B41100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192-EE5F-48D6-8B92-FA4987AD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2C4-DB0D-4C3B-A3AF-F6BE4088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E3C-12AB-46AA-A38C-427756F0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DCD-07BB-4803-97A9-7903BC74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86F-A872-4D76-8B02-8981AA25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D12A7-443D-4B2F-96AD-4D871F3259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