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2963"/>
        <c:axId val="86962629"/>
      </c:barChart>
      <c:catAx>
        <c:axId val="4132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62629"/>
        <c:crosses val="autoZero"/>
        <c:auto val="1"/>
        <c:lblAlgn val="ctr"/>
        <c:lblOffset val="100"/>
        <c:noMultiLvlLbl val="0"/>
      </c:catAx>
      <c:valAx>
        <c:axId val="86962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2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70E-34CA-4C13-BD4E-819A1B5A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69E-CC16-463E-94F1-E414ABEA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323-AF65-449E-ABA5-0342CAC8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9E3-5FDB-462F-B1B6-3B4F9155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C4C-9B6E-445E-A184-757FF097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C92-E303-4B5C-8695-2DFEC4D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F3D-E8AA-4891-8F27-3B81EA49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6A0-E30C-4D54-A3BD-0A0E037A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201-28CD-4A88-9A82-31C83F21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81B-845C-4711-A336-22F900E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D9A-A4AF-4E30-8357-49FB4BE8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E18-D136-438F-B6B2-0EBD8C5B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B9C1F-2B58-4F97-BF62-1B1B19E5DA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