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912449"/>
        <c:axId val="4363042"/>
      </c:barChart>
      <c:catAx>
        <c:axId val="839124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63042"/>
        <c:crosses val="autoZero"/>
        <c:auto val="1"/>
        <c:lblAlgn val="ctr"/>
        <c:lblOffset val="100"/>
        <c:noMultiLvlLbl val="0"/>
      </c:catAx>
      <c:valAx>
        <c:axId val="43630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9124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407E-768D-4CC5-9BA9-C3B6A8F1F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56D4-87EF-4CE8-B3ED-A9727C60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4C79-0510-4527-8264-9BE207BB9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F535-A3CC-4398-AFED-B4CF90916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A05A-E593-428D-A585-5D09186D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D0F1-8328-41F4-8C3F-E8F84710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B2D4-97DC-4EFB-8D1B-FF0388DF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6F3D-3CE7-4080-A808-F53E9FFD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6154-37E0-4ED6-AA49-182386BF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7FFE-FA78-440F-A3FF-5A733D22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F537-D0C4-487A-9560-ED9A56E7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C1A7-1906-4200-BD35-578A8AF3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9B29E4-1749-4E1F-87F5-92A0A0A076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