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34986"/>
        <c:axId val="78978849"/>
      </c:barChart>
      <c:catAx>
        <c:axId val="58534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8849"/>
        <c:crosses val="autoZero"/>
        <c:auto val="1"/>
        <c:lblAlgn val="ctr"/>
        <c:lblOffset val="100"/>
        <c:noMultiLvlLbl val="0"/>
      </c:catAx>
      <c:valAx>
        <c:axId val="78978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34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F91-978D-41A2-A6D7-2AACE22F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891-7C81-4105-95CC-FD6C812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A81-7F5B-4A36-A482-2A45CF04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705-A944-4256-82C7-4F9AE92F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F16-9217-4740-879F-93E8F786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BCA-B866-4BF4-91D0-9C208814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E68-19D4-4FC0-847E-BC79BBE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3DC-5249-4D7C-AD82-6C815280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A02-7D37-459D-8422-09AB8B88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51C-78F0-48DC-9BB9-72AA259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CD5-069F-46A0-A0E2-C626869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B6E-3B3D-4874-A5E3-C86F072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EBE0C-E948-4CFB-BD39-D2BA3761E9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