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84037"/>
        <c:axId val="74664724"/>
      </c:barChart>
      <c:catAx>
        <c:axId val="12184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4724"/>
        <c:crosses val="autoZero"/>
        <c:auto val="1"/>
        <c:lblAlgn val="ctr"/>
        <c:lblOffset val="100"/>
        <c:noMultiLvlLbl val="0"/>
      </c:catAx>
      <c:valAx>
        <c:axId val="74664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84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315-A2B8-47F6-8262-26D72F3B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3E8-7989-4814-A531-520085C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CE8-DCC1-4CCB-A3F7-81F028AA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B64-D637-4403-A560-479C558F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791-79C8-4BA6-8293-172F753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4D9-CD50-466D-96A2-78F12EAF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B6E-27F6-499C-B217-79E08B9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722-52BB-44C9-8AE2-0CDC20C8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A40-C4A2-42F4-ACCB-1105BD5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82C-0217-4CCF-9018-78250A9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98E-C49D-4C81-BE13-707ADFB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9A7-F21E-4F0F-8378-2AF9CDC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2E9B-2275-4325-A23F-C032FC01A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