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12651"/>
        <c:axId val="66782535"/>
      </c:barChart>
      <c:catAx>
        <c:axId val="94612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82535"/>
        <c:crosses val="autoZero"/>
        <c:auto val="1"/>
        <c:lblAlgn val="ctr"/>
        <c:lblOffset val="100"/>
        <c:noMultiLvlLbl val="0"/>
      </c:catAx>
      <c:valAx>
        <c:axId val="66782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12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F73-BC50-4B89-88B8-21602BD7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654-FC7B-470F-8234-9FACDBDE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554-286B-4236-9E13-F0839BC7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6AC-FDB6-4396-B509-0CE148BA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AEC-4499-4889-BF4C-46B4258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D17-4A5C-4E7D-A74F-EBAEBF4B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D2C-12F5-4AF6-AEF1-5DF30EB2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C23-537F-4D2C-BE61-7F2ACB23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BED-4289-4CF4-AA37-D21159F2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E3E-6480-40CC-A9B6-987F7E85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336-FC5F-415B-81B8-CAAF2EFC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1C9-371A-4D02-87FF-BB5C78A3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7B812-4894-4871-8CCC-89D20E21F9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