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509050"/>
        <c:axId val="89708367"/>
      </c:barChart>
      <c:catAx>
        <c:axId val="605090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08367"/>
        <c:crosses val="autoZero"/>
        <c:auto val="1"/>
        <c:lblAlgn val="ctr"/>
        <c:lblOffset val="100"/>
        <c:noMultiLvlLbl val="0"/>
      </c:catAx>
      <c:valAx>
        <c:axId val="897083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090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79DA-4A52-4F40-B01C-5DE682E6C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402E-77AB-4B5D-9B7B-2DA35EAB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A3FC-B53F-4E2B-933F-E6F66842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FFBB-51A5-4ADD-B04B-F6CE99C3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0E4B-141C-429A-AA2E-D1AC2A40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787E-F562-4C64-ACF1-CCF0C095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51FD-321D-4ECC-95DE-655B49B3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2FC5-C3D6-44A8-9981-65F09845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D79B-48DF-4FD3-923E-4C95A7F9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441D-D2D9-4077-B13B-4270B795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371E-C41E-4305-A16B-8E659A0F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D45B-35DF-4E24-9429-84FC525C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A1259-405C-442F-84A7-4E33EEF923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