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53715"/>
        <c:axId val="54138881"/>
      </c:barChart>
      <c:catAx>
        <c:axId val="82853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38881"/>
        <c:crosses val="autoZero"/>
        <c:auto val="1"/>
        <c:lblAlgn val="ctr"/>
        <c:lblOffset val="100"/>
        <c:noMultiLvlLbl val="0"/>
      </c:catAx>
      <c:valAx>
        <c:axId val="54138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53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FA3-AFC7-4477-A297-93CD7265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21C-5B58-4439-A370-46424CE3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DC0-82D1-4E30-9418-2CDE3FA7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CD5-D889-460B-86B7-6F9AF130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E78-D22F-4A56-9F4B-349C2D32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4EB-8A27-42B5-BB66-DC8DA5F3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E87-88C9-4B1E-A3E7-AB197A80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676-C2F1-4045-A7CC-0D85C9AC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98C-8C07-4610-9976-E4C91451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754-6DF7-423F-AE28-7491BEBE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67E-44EE-4F2C-BF21-4EC4D2BF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28C-24FB-46F5-AB58-DDFD3CBC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0D477-2974-44F7-BCD7-B9F33D785E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