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611946"/>
        <c:axId val="1572238"/>
      </c:barChart>
      <c:catAx>
        <c:axId val="476119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2238"/>
        <c:crosses val="autoZero"/>
        <c:auto val="1"/>
        <c:lblAlgn val="ctr"/>
        <c:lblOffset val="100"/>
        <c:noMultiLvlLbl val="0"/>
      </c:catAx>
      <c:valAx>
        <c:axId val="15722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119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F5F4-A58C-40D6-AACC-F810AC1B6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C16D-C8CC-4F30-BD44-8299E943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FD50-CBF1-4C2F-BC27-0E69FDEC2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0FE6-CFF3-4BF0-827F-FC480459B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9AD8-1EAE-423A-A02A-7D7B5F9C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B672-A35D-4712-872D-0D99152F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6F39-9A2A-44EB-B894-1859CA87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395E-BDED-4909-B05A-46706C3E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6888-21E0-4C1D-9BCA-15C16CCF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6F66-59ED-40B8-9730-640544F8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F6E4-C277-4F3B-8133-61C594E5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A859-018E-430D-B9FE-C098291D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0304E-514A-4454-BC75-E390A76810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