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904310"/>
        <c:axId val="5972865"/>
      </c:barChart>
      <c:catAx>
        <c:axId val="589043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72865"/>
        <c:crosses val="autoZero"/>
        <c:auto val="1"/>
        <c:lblAlgn val="ctr"/>
        <c:lblOffset val="100"/>
        <c:noMultiLvlLbl val="0"/>
      </c:catAx>
      <c:valAx>
        <c:axId val="59728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9043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B64B-C9D9-4582-AFF5-F0AAABBBA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02D4-7419-43A0-971C-5CC6D944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C474-4C0A-4AEF-9912-43163985B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EDC8-661A-4794-9ED4-28AD0207D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F75C-05DE-4671-89F0-3F3C7ACC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3F47-5770-410C-B6F3-D085FF60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2A16-3B80-4B24-8670-D43D5ED3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080F-C0A6-4B48-B88E-F711672C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150C-6FC6-4607-83AE-A45B18A5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D333-3D7F-4BD6-980B-7FB1D044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C933-3260-4F65-867A-9C267ABD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F224-EBD9-4B6A-A984-AD75EF88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E97F8A-08E3-455D-9D81-8C849860C4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