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64970"/>
        <c:axId val="74473731"/>
      </c:barChart>
      <c:catAx>
        <c:axId val="33064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3731"/>
        <c:crosses val="autoZero"/>
        <c:auto val="1"/>
        <c:lblAlgn val="ctr"/>
        <c:lblOffset val="100"/>
        <c:noMultiLvlLbl val="0"/>
      </c:catAx>
      <c:valAx>
        <c:axId val="74473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64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0E5-C265-4BA5-8A7F-C2505504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AB9-7BBC-489F-8FF1-F8FAE852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53F-3C7C-4BD4-838A-F7963C46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973-CD7A-437D-9102-820DE7CE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2EA-EE4E-4714-8C21-8F395D3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94C-D19C-43CD-91E5-2ED4F037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03E-3B39-4753-8E29-44117DAB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EB8-9B8F-4318-97DF-F211444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071-A7F1-4F5C-8145-66F3366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4E8-0D38-4DAD-9253-F3EF6361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887-D38F-419F-9F5A-F393E94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980-73FD-4D03-99AB-7DC958D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96925-34F7-48FE-99CE-591FBED8C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