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61762"/>
        <c:axId val="28239707"/>
      </c:barChart>
      <c:catAx>
        <c:axId val="61061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39707"/>
        <c:crosses val="autoZero"/>
        <c:auto val="1"/>
        <c:lblAlgn val="ctr"/>
        <c:lblOffset val="100"/>
        <c:noMultiLvlLbl val="0"/>
      </c:catAx>
      <c:valAx>
        <c:axId val="28239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61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F8C-9771-42BB-A170-7B3E9396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62A-CC25-4A7B-878E-957B61F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718-F65B-4FED-98A7-DFF3AFD9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9C3-0CB6-40C8-B2F0-7254C4B7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CA3-92EB-4E20-9AC0-609DB31E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41A-0FA0-440C-9CCC-5ED68C2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6D2-4204-4966-9F97-34604D9C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387-D4F8-4F8A-80FC-E867F558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EB9-4712-4944-90B3-51D15201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599-4B37-4EA3-AA79-D27DDA7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43C-CA75-4509-A235-43070963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D31-9428-47E4-B73A-E27BAE7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B9C8A-BD29-4DFD-B1D3-1C9125873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