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92028"/>
        <c:axId val="4998605"/>
      </c:barChart>
      <c:catAx>
        <c:axId val="31892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8605"/>
        <c:crosses val="autoZero"/>
        <c:auto val="1"/>
        <c:lblAlgn val="ctr"/>
        <c:lblOffset val="100"/>
        <c:noMultiLvlLbl val="0"/>
      </c:catAx>
      <c:valAx>
        <c:axId val="4998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2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D7C-70B0-4E77-9A4A-E03EE04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4D8-F2CD-4A80-93A5-308F893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235-AC26-4036-A151-573A658A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83F-2EA8-44EB-912D-CAF13E32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84E-6D2E-4E3F-8977-BD8F6B5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866-A5EF-46BE-BB19-B049316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64E-873B-4ABC-BAD4-53B7AE99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2C4-7F59-4FB0-A0E0-8A9E0FB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596-B291-44F4-A5A7-17EBD034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F7B-2E3A-445B-BAA5-C6E7B04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FFE-0274-44A5-8AFD-CF41B4A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267-68F7-46D2-BD9F-DC2866F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5FE9-9EBF-4BB8-B590-01E00A78E6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