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99020"/>
        <c:axId val="65123898"/>
      </c:barChart>
      <c:catAx>
        <c:axId val="90299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23898"/>
        <c:crosses val="autoZero"/>
        <c:auto val="1"/>
        <c:lblAlgn val="ctr"/>
        <c:lblOffset val="100"/>
        <c:noMultiLvlLbl val="0"/>
      </c:catAx>
      <c:valAx>
        <c:axId val="65123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99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099-4A74-4249-88CA-4E9390E4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EC0-2982-4A1A-BD98-988A4ADC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9D5-A493-40AD-82E0-F414BE62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C95F-4E29-4749-AE83-50A67BC3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1987-FF9F-4BB3-8C67-FEB9016E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AE3-7D29-4D6D-9652-81F3E867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B3DA-DE42-4318-BCDE-5BCB352F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23D-09E8-45A0-AE89-57C45FE1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73A-F185-4193-BF77-33844183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7C6-ACF5-4242-82B9-45000E94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8C3-3ED0-4028-844F-E3ABCE9E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300-0E18-4FDF-8BA0-3E095151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3CEDB-FC72-42C4-931F-E7646109BA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