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79922"/>
        <c:axId val="38378016"/>
      </c:barChart>
      <c:catAx>
        <c:axId val="39579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78016"/>
        <c:crosses val="autoZero"/>
        <c:auto val="1"/>
        <c:lblAlgn val="ctr"/>
        <c:lblOffset val="100"/>
        <c:noMultiLvlLbl val="0"/>
      </c:catAx>
      <c:valAx>
        <c:axId val="38378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79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CD3-EB59-49A4-AC01-AFA64887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79E-BD6D-4B6F-BF10-7711A095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9B0D-F781-4F3B-9451-CD18042C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083-8D25-4F04-BA07-36B387A6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8C0-66A7-45E9-A66F-E34EE5D3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1A2-894C-4416-B8D3-8C528A3D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FD2-18FA-4B8F-A1C1-B7092760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240-4680-4EFD-B6E7-16B0E6A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693-A98B-41B5-8DC4-927ACABD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A709-3264-467A-BFD6-DB0C3E7E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426-C04C-4A7C-86A6-8A09621E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9A5-AD36-4B47-B381-EA1FEA8D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E969F-EBE5-4393-BC35-CDC072D0E8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