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415308"/>
        <c:axId val="29449911"/>
      </c:barChart>
      <c:catAx>
        <c:axId val="294153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449911"/>
        <c:crosses val="autoZero"/>
        <c:auto val="1"/>
        <c:lblAlgn val="ctr"/>
        <c:lblOffset val="100"/>
        <c:noMultiLvlLbl val="0"/>
      </c:catAx>
      <c:valAx>
        <c:axId val="294499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4153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BF7D-DB41-480D-8E64-D084DAF16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CB50-A464-4365-8640-9D272393E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0F08-CDC0-4911-A611-6036E1631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F194-C48A-4EE4-B3DA-ACB0F85E5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6F34-DDA8-4C22-B554-93A196D23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59D4-FBE4-46F6-83F5-EC2B1C04F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58D3-C681-495F-8E76-B87DD2748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D46B-5967-4FBD-8E4F-31DB16731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CB3D-448B-4D62-88DB-0D05ABA46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412C-7799-42F6-9513-60704E00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E1B9-7576-4776-97A7-0C943AAE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1D06-6178-486F-A5CF-52C8003D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55738B-9F3E-458F-8531-96A7BF409C0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