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08970"/>
        <c:axId val="44273105"/>
      </c:barChart>
      <c:catAx>
        <c:axId val="40808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73105"/>
        <c:crosses val="autoZero"/>
        <c:auto val="1"/>
        <c:lblAlgn val="ctr"/>
        <c:lblOffset val="100"/>
        <c:noMultiLvlLbl val="0"/>
      </c:catAx>
      <c:valAx>
        <c:axId val="44273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08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536-F66E-4B50-921E-419A89E3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3DE-5CD0-4470-BD66-C763908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142-7D14-427B-9506-F018D9F8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BE2-003C-4EC7-9AB8-DF3E603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AB4-B54F-4837-96D9-B6E2A34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7B5-F5FB-4567-8FC5-FD399BD0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B08-632D-4FA3-8C0F-B8349E7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A5F-1449-4AA6-81DB-2728C4A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902-D535-4F02-8269-6BD85511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3F8-95D8-41EF-BEF4-5DA8FE3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409-44A2-4E84-AD29-11ACFE1E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6B8-25A7-43F7-9C6F-2B686F5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0D838-9909-4B21-9B42-AF7A6283B7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