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17770"/>
        <c:axId val="79366478"/>
      </c:barChart>
      <c:catAx>
        <c:axId val="97417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6478"/>
        <c:crosses val="autoZero"/>
        <c:auto val="1"/>
        <c:lblAlgn val="ctr"/>
        <c:lblOffset val="100"/>
        <c:noMultiLvlLbl val="0"/>
      </c:catAx>
      <c:valAx>
        <c:axId val="79366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7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6AE-04E8-491F-96BD-67E4172D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1C4-F7B7-40F6-BC4D-729DBECD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345-D327-4CA0-B0E1-FAFD8833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D98-112F-4FD5-92FE-E3E8F28D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65E-6473-4674-899A-15768048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EFC-78B7-4411-AAB0-B941D4F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581-1497-44D0-9685-71C8E3B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E91-6B02-496A-8B4D-9B91782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766-C9CD-4B29-9A2A-7CB0FFD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14D-8FB3-49E8-B7B5-527158E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CE7-00F9-4345-8655-BE535D4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F7F-A6FF-4281-81D5-40E837F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D0692-A7CC-4487-BC14-29F902445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