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17468"/>
        <c:axId val="36739782"/>
      </c:barChart>
      <c:catAx>
        <c:axId val="18017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9782"/>
        <c:crosses val="autoZero"/>
        <c:auto val="1"/>
        <c:lblAlgn val="ctr"/>
        <c:lblOffset val="100"/>
        <c:noMultiLvlLbl val="0"/>
      </c:catAx>
      <c:valAx>
        <c:axId val="36739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17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AE2-0191-402E-8FB0-EB8A7275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050-E31D-4C12-B103-F1CB729D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9E2-EB87-4AC4-A695-445244B7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A66-D450-4093-8C23-27BC0384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0FC-80E0-4FA5-A474-9205A6EA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DF4-05F1-4797-A226-CD1EC007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501-2EA1-4288-96F4-BAF680C6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2F7-3D6A-4237-8411-91DED8E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50B-428E-4437-859F-CA2C6DB6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E72-5F1F-4EFD-94A8-90D011FA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68D-2F3F-43B6-B80C-DF7E32E5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B09-45F7-4967-9CC9-8052F4DF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92B01-D2B8-4BA1-89ED-871345609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