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6301065"/>
        <c:axId val="35575190"/>
      </c:barChart>
      <c:catAx>
        <c:axId val="8630106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575190"/>
        <c:crosses val="autoZero"/>
        <c:auto val="1"/>
        <c:lblAlgn val="ctr"/>
        <c:lblOffset val="100"/>
        <c:noMultiLvlLbl val="0"/>
      </c:catAx>
      <c:valAx>
        <c:axId val="3557519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30106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473D6-8EE5-4E74-80BC-2C6A54B02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6088A-3811-40DE-B12F-BAA20182F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6D078-8CE2-4186-9742-B09C0DDD7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7A1A3-66DF-4277-A45B-B244C074D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F7F09-F988-46C8-B104-A7613D700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EB848-FCA4-4503-93F3-46A108065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F3C36-1189-4BC6-9CBB-FC6BB6A26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E0688-4163-4799-86AD-678C2A3E8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E664B-A2A5-4E97-8E40-5E75A1318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3C570-3F2A-44E4-BB6E-8D4B4BBA9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7EE39-5296-4841-8E08-66117059E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FC1EA-30D6-4156-A349-C4E33D25A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F3537F-25C6-4FB1-A071-9291F1F3DC9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