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90856"/>
        <c:axId val="41057578"/>
      </c:barChart>
      <c:catAx>
        <c:axId val="37490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57578"/>
        <c:crosses val="autoZero"/>
        <c:auto val="1"/>
        <c:lblAlgn val="ctr"/>
        <c:lblOffset val="100"/>
        <c:noMultiLvlLbl val="0"/>
      </c:catAx>
      <c:valAx>
        <c:axId val="41057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90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743-6E2C-4436-9EBE-CDA970C7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C39-91BE-46C7-A169-E5CEB44B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954-EFF9-4A16-83BC-E8C7C3F6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B66-1D36-4D31-AF06-9E4EDD6E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9A7-B360-4A92-BC87-E4C5AF4F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95A-B665-48D1-A203-44FC4F43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2BD-FDEC-4826-8AC0-15EB3465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DEB-06EB-4AD1-AD4F-A44D8695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B5F-05D0-4619-820C-8A376C21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477-5E53-4C02-83D5-AB69FFF8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292-5DC5-4CD7-9CB3-A99F4FC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9FF-835F-4FA4-B21F-F2314F36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8CC27-FF91-42C8-A40B-3515E2ADE4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