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31684"/>
        <c:axId val="14170618"/>
      </c:barChart>
      <c:catAx>
        <c:axId val="15431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0618"/>
        <c:crosses val="autoZero"/>
        <c:auto val="1"/>
        <c:lblAlgn val="ctr"/>
        <c:lblOffset val="100"/>
        <c:noMultiLvlLbl val="0"/>
      </c:catAx>
      <c:valAx>
        <c:axId val="14170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1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6C7-2155-4B95-A52C-85715AA3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429-E2C5-4693-8FA1-D0D9D5B8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F0B-0071-4866-831A-81A669B7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6B9-8042-4343-9AF7-2FB5AEED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553-07ED-4F92-A8C2-6D851D8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727-EDD2-4A50-9619-A461FD0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9D3-41A1-49A5-BCD4-E4E2A70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48F-A85D-476F-B274-23949D3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88E-FC83-45BB-A144-BC613F3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D3E-2E52-4091-BA03-EB0C655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C41-369B-4AE4-B9C7-6539F68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E86-EF8E-4BE7-AB8C-4E51E17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24D55-A52E-4C3E-9A9F-973E92074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