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34407"/>
        <c:axId val="18308953"/>
      </c:barChart>
      <c:catAx>
        <c:axId val="30934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08953"/>
        <c:crosses val="autoZero"/>
        <c:auto val="1"/>
        <c:lblAlgn val="ctr"/>
        <c:lblOffset val="100"/>
        <c:noMultiLvlLbl val="0"/>
      </c:catAx>
      <c:valAx>
        <c:axId val="18308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34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4C1-029C-432C-92D3-75D1262F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4DF-9028-4612-9D23-CF5238E0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098-D7FF-4854-A6E6-18A5279F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218-F5B3-4F6E-9206-01111482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566-C67C-43BD-A708-FB72997D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E47-894F-4451-80AB-A85B232D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808-3821-44AA-84BA-684F7A12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E4D-AEEA-45C2-9397-24C47597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169-818C-494E-AF35-50112A0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14B-F10B-4D70-8A19-2B25585A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5BD-A7BF-406F-8A8C-53FF18E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0F9-B70C-4C6B-AB28-66EEDD10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29D3D-A17D-40FA-87ED-3F4A20E882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