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62085"/>
        <c:axId val="26847416"/>
      </c:barChart>
      <c:catAx>
        <c:axId val="33062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47416"/>
        <c:crosses val="autoZero"/>
        <c:auto val="1"/>
        <c:lblAlgn val="ctr"/>
        <c:lblOffset val="100"/>
        <c:noMultiLvlLbl val="0"/>
      </c:catAx>
      <c:valAx>
        <c:axId val="26847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62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248-D003-4572-99D4-E6E90687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1B4-C66C-4BEE-902E-B27B558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14A-1150-432E-951E-AC3747CA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0C3-E7D3-4560-9C38-F8A2D2F5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99A-2938-4579-911D-1CD7E949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6D4-6F26-46BE-8856-6381CE7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0E0-A82B-4941-8F8C-1D6E3E85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CE2-87DE-4912-8832-24C4563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833-A3A2-4608-B03C-136720F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268-A751-42AB-87B6-EF4DF2E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EFF-21F0-420F-BB36-37C4D53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98A-6ECC-47DB-9761-672976F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8225-6345-4799-A5E5-E6B2CB6B2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