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85400"/>
        <c:axId val="70057196"/>
      </c:barChart>
      <c:catAx>
        <c:axId val="34285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57196"/>
        <c:crosses val="autoZero"/>
        <c:auto val="1"/>
        <c:lblAlgn val="ctr"/>
        <c:lblOffset val="100"/>
        <c:noMultiLvlLbl val="0"/>
      </c:catAx>
      <c:valAx>
        <c:axId val="70057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85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C96-35FF-434C-970D-606ABBF4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2FE-45E0-4FB8-88DD-41FE509C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50F-54A7-4864-ACF5-481AC8D9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9C31-0660-4F3D-9628-5CBAA496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1C8-0D47-4091-B2A2-A38B29E6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9BA-74B0-446E-BC60-8EF3DCCB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2D7-AFB0-45E4-82A2-742B5986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D5C-4965-4B57-9E28-97A7CFE4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DAB-4B7D-4CE8-87A1-8D1D5093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188-DA83-45FA-B7E4-68A4015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F9A-3E1D-419C-A216-7F1DC361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BB8-A27A-4C14-8048-51628879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958A1-1C6B-4A88-9685-71A147D5F9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