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3798"/>
        <c:axId val="78939062"/>
      </c:barChart>
      <c:catAx>
        <c:axId val="5293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39062"/>
        <c:crosses val="autoZero"/>
        <c:auto val="1"/>
        <c:lblAlgn val="ctr"/>
        <c:lblOffset val="100"/>
        <c:noMultiLvlLbl val="0"/>
      </c:catAx>
      <c:valAx>
        <c:axId val="78939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3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937-36EF-4C0D-BCBA-BD016DE2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51D-DE13-41AD-AF8E-521D8CBC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F52-C2C4-40A7-A8F8-1F6A1A4B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AAE-E606-45DB-B8F7-93E55666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A89-9788-4EFA-8BE0-823CB90C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CCA-82AD-422B-A3EE-BB2C7600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EFE-7319-4822-A2AD-9BC530FE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476-F2D1-4905-A7FD-2A78A071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92C-2596-4A47-B6B4-A424449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D92-1962-4B9C-867C-5F60E13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75D-6225-4A28-95FF-20E751A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597-7C2C-45F0-B37E-9796F0C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B295A-592C-4D5D-A134-E074009CC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